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90360" y="744120"/>
            <a:ext cx="66168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F4F4-C8FE-4766-8953-A8EB48E2995B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97B7-A4D8-4665-B910-D778908C8B2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0360" y="744480"/>
            <a:ext cx="6616800" cy="3722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ço Reservado para Número de Slid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F9A6-EF06-4B6A-9C47-14ED25F60E7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1227-19B6-4440-B252-B067C8563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2273-9970-406A-BCFD-F42FC230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3460-EDBC-4C06-B6BC-77AEA1AD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9FDE-99A8-4697-9104-8C82A323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A398-FF6F-49BA-90E2-8CE59CBA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B4AC8-D196-46DE-B759-6264976D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839BF-9906-4DC4-8185-5F2B8D36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8CB4-901C-4068-A364-559C9ACD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E433-1FA9-4180-A6E0-B3D1E2F5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06531-27B3-40D6-8060-D05CE3D1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C8E7-088C-4489-A3D7-21DA598A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3716-18A7-4974-9217-5B849154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CE68-8F24-49E0-96B9-891B670E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AFDEE-C9F1-4E88-9765-36DC0D5A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C800-7C67-498C-81A1-2EA2622BD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99EC-A779-4CC5-99BA-96A97FF80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31DD-53B1-4B62-BEFE-C022367E1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6F7F-3388-432C-8D77-263B18CE7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8D11-F8C7-467E-AAC0-1B3394B7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97A6-5086-4DED-B58E-D24D9F08A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2DD10-1E8C-40CB-BE44-A3154B63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7E84F-4F83-463A-91E4-DDA468D3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8C06-CF3F-49A5-AB0B-5523EB77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F7FE5E-BEBC-4692-B0D8-FDC9BD5F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37FB-CE9D-486C-9B1D-DACB2F6E4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202A6-1A4F-47B6-8A0D-A6CCC202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6F87C-746D-42E7-B63D-27249446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A8A1-062E-4E33-BB8F-775EC9CED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B0849-0EF7-445F-B3AD-C176ECB47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DA552-DD38-4FA8-942A-30E86C682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9439B-941A-46F7-B55A-B00535E1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C0963-C1D9-49A0-8908-E366DD8B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4CECE-23CB-44EF-B74A-4AD037C9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E3F4-4BE1-48DB-BA1A-00EF5A412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AF018-652C-4B10-85CF-1EF60FA79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D560F-2ABA-4B38-A22E-74261E13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995C92-4F94-44A9-8787-DF972FAA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3A97F-0B19-4497-9900-2B901413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9B47-C28C-45FA-85DD-C384C35A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DB67FB-9D0E-4F9C-9278-4208F07D9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EE10D-6BD8-465D-A2E3-D998D172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DE778-DE77-4EB1-88E7-A14A1AAC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D7FDF-FC4F-4FC0-8CDA-EFA20B53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106411-9B65-47B4-85DB-883CA1942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8A8E-0A6A-4184-8EE5-E592C74CF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034A6-2CB8-4A1D-AD71-E1D0EDE00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C9B84-422F-4173-AC9E-509DC59B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88F27-7407-4CA8-8F1F-A351B8B8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89714-6CFB-4453-90BF-F2ABB379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FAAC-6592-44CE-929E-A8449D6D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71D33-A6DB-4332-ADDB-021079A21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7316F-1563-4799-A801-70F5D4E5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D2CBF-38A9-43A3-AD46-2A1451DD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AF504-71FA-4DC9-8E57-8986889AD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39558-8E65-46E9-9ABC-33D4DBB6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36E-E02A-4F4B-9E12-1D8EBCFE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0A201-3804-4404-AFA8-9E34219BB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86B756-5316-419F-B9C2-ADC34520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CBF57-F7CD-429A-A634-04788658D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02C24-8E3C-4A4A-9FCA-094FD42F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FB6F5-DE50-48C1-9939-CB84D053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49F188-3740-44DE-A5E8-BFA4E0CB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C15B0-1FA2-41BB-B810-577094E36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C225E-35D1-4DDA-A03B-E34797CA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D5177-EBA7-4D3C-8D48-8E074ACF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AC9DC-39FD-44E8-8AB5-0D545B927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0D4-7FF3-4FFF-8D31-134BDE78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12C5-C702-4BBA-893C-3C2AF57C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6645A-0B60-4B5F-A860-1E78B627B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7ED19-2D35-4506-A885-39E01C25B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2674-614A-4498-A810-C563A78A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CF57-A1A9-43F1-B90E-EF56BD87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0A93-9EE1-4E08-8F35-4A52A7EB0148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7AD0B-48F7-4E72-8A05-E1E66C699D07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FE8B-8F44-4117-AB35-1BD6B626206E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F472C-8A89-4E1E-8B82-F243D3069E14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7605-143A-4E6C-AAC1-A32DA1EB0C7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540E-3A7B-436B-8610-BFBA951E4FC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3617-92FF-4A44-9547-02DD5B4EF6A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A9DA-A99D-4567-960F-81E33DA507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179" name="Retângulo 9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BA47-E1A5-455F-B20F-C554BAD83A64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9B6B-E1A8-4018-95E3-55ACFC9E7D88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tângulo 6"/>
          <p:cNvSpPr/>
          <p:nvPr/>
        </p:nvSpPr>
        <p:spPr>
          <a:xfrm>
            <a:off x="-7920" y="-9360"/>
            <a:ext cx="10496520" cy="701640"/>
          </a:xfrm>
          <a:prstGeom prst="rect">
            <a:avLst/>
          </a:prstGeom>
          <a:solidFill>
            <a:srgbClr val="126a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ixaDeTexto 7"/>
          <p:cNvSpPr/>
          <p:nvPr/>
        </p:nvSpPr>
        <p:spPr>
          <a:xfrm>
            <a:off x="173160" y="66600"/>
            <a:ext cx="70088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SECRETARIA DE PREVIDÊNCI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500" spc="-1" strike="noStrike">
                <a:solidFill>
                  <a:srgbClr val="ffffff"/>
                </a:solidFill>
                <a:latin typeface="Gotham Bold"/>
              </a:rPr>
              <a:t>MINISTÉRIO DA FAZEND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Imagem 1" descr=""/>
          <p:cNvPicPr/>
          <p:nvPr/>
        </p:nvPicPr>
        <p:blipFill>
          <a:blip r:embed="rId2"/>
          <a:stretch/>
        </p:blipFill>
        <p:spPr>
          <a:xfrm>
            <a:off x="10618920" y="114480"/>
            <a:ext cx="1400040" cy="5587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C30D-DF73-4E59-B296-69F17B8D6E0F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17A1-D622-4755-9C96-C7C2F35D577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3"/>
          <p:cNvSpPr/>
          <p:nvPr/>
        </p:nvSpPr>
        <p:spPr>
          <a:xfrm>
            <a:off x="2567160" y="1413000"/>
            <a:ext cx="693396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4000" spc="-1" strike="noStrike">
                <a:solidFill>
                  <a:srgbClr val="000000"/>
                </a:solidFill>
                <a:latin typeface="Arial"/>
              </a:rPr>
              <a:t>Maio/20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unho de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2063880" y="616572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GPS – 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334800" y="692280"/>
            <a:ext cx="108014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372960" y="1268280"/>
            <a:ext cx="11484000" cy="522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765000"/>
            <a:ext cx="914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Imagem 1" descr=""/>
          <p:cNvPicPr/>
          <p:nvPr/>
        </p:nvPicPr>
        <p:blipFill>
          <a:blip r:embed="rId1"/>
          <a:stretch/>
        </p:blipFill>
        <p:spPr>
          <a:xfrm>
            <a:off x="341280" y="1484280"/>
            <a:ext cx="11515680" cy="498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2"/>
          <p:cNvSpPr/>
          <p:nvPr/>
        </p:nvSpPr>
        <p:spPr>
          <a:xfrm>
            <a:off x="334800" y="731880"/>
            <a:ext cx="10801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Imagem 1" descr=""/>
          <p:cNvPicPr/>
          <p:nvPr/>
        </p:nvPicPr>
        <p:blipFill>
          <a:blip r:embed="rId1"/>
          <a:stretch/>
        </p:blipFill>
        <p:spPr>
          <a:xfrm>
            <a:off x="334800" y="1450800"/>
            <a:ext cx="1152216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285840" y="836640"/>
            <a:ext cx="10850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285840" y="64641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285840" y="1413000"/>
            <a:ext cx="11571120" cy="50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34800" y="765000"/>
            <a:ext cx="10730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Imagem 1" descr=""/>
          <p:cNvPicPr/>
          <p:nvPr/>
        </p:nvPicPr>
        <p:blipFill>
          <a:blip r:embed="rId1"/>
          <a:stretch/>
        </p:blipFill>
        <p:spPr>
          <a:xfrm>
            <a:off x="334800" y="1270080"/>
            <a:ext cx="10801440" cy="52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34800" y="76500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Maio (2016 e 2017) – Em R$ milhões de Maio/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334800" y="633744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Imagem 1" descr=""/>
          <p:cNvPicPr/>
          <p:nvPr/>
        </p:nvPicPr>
        <p:blipFill>
          <a:blip r:embed="rId1"/>
          <a:stretch/>
        </p:blipFill>
        <p:spPr>
          <a:xfrm>
            <a:off x="306360" y="1333440"/>
            <a:ext cx="1082988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1523880" y="83664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e Maio (2016 e 2017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Imagem 1" descr=""/>
          <p:cNvPicPr/>
          <p:nvPr/>
        </p:nvPicPr>
        <p:blipFill>
          <a:blip r:embed="rId1"/>
          <a:stretch/>
        </p:blipFill>
        <p:spPr>
          <a:xfrm>
            <a:off x="334800" y="1473120"/>
            <a:ext cx="108014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34800" y="69840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Maio de 2017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12840" y="645480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RGPS/SPREV/MF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352440" y="1341360"/>
            <a:ext cx="10783800" cy="511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1-26T10:42:46Z</cp:lastPrinted>
  <dcterms:modified xsi:type="dcterms:W3CDTF">2017-06-27T21:55:03Z</dcterms:modified>
  <cp:revision>415</cp:revision>
  <dc:subject/>
  <dc:title>Demografia</dc:title>
</cp:coreProperties>
</file>